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F611-A0F1-4692-8386-1DA08B06E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rge gap between data and decision support.  GEOSS will have to – someday – facilitate data fusion / IC / value-a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Quality community has been very engaged with AIP.  Scenario written by community.  Very ambiti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rge gap between data and decision support.  GEOSS will have to – someday – facilitate data fusion / IC / value-a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423D-F84C-431E-96B8-22404D3DF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B578-7ED9-4CD6-87AC-7DD9AD06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0CDD-F49A-44B9-85CA-B8E4E8739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EDAD-3A05-4403-B11A-2816D6FBD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1338-94E1-4015-86D5-DB765C1A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BB36-56D3-462C-967C-733B186E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F0DF-6214-4740-B8B1-EC362B44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0D37-BCEC-4091-8F29-2E360972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6018-021F-47AE-A735-0F1BAB34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BC90-5A93-430F-A8C9-18DC1976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E031-3C62-44C3-9D11-0CF9C965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CA87-5CAB-4D9E-8C3C-04EFB619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A9B5-D200-4388-A8AA-5D31DD00B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EO Air Quality Community of Practice:</a:t>
            </a:r>
            <a:br>
              <a:rPr sz="4400"/>
            </a:br>
            <a:br>
              <a:rPr sz="18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rom Observations to Decision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99800" y="3580920"/>
            <a:ext cx="6837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McCabe, Phil Dickerson, Lawrence Friedl, Rudy Husar, Terry Keating, Frank Lindsay,    Erin Robinson, and Stefan Fal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 34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RSE 3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May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sa, It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ilding the AQ System of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of the efforts to build parts of this vi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 AIP: AQ Community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Q Forecasting &amp; Public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tional modeling and evaluation initiativ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OS Atmospheric Composition Constel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irtual constellation of satellite sensors focused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hanges in the ozon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limate for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ir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planning an Atmospheric Composition Po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4600" y="1270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o we stand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16000" y="1600200"/>
            <a:ext cx="2946240" cy="2019240"/>
            <a:chOff x="216000" y="1600200"/>
            <a:chExt cx="2946240" cy="2019240"/>
          </a:xfrm>
        </p:grpSpPr>
        <p:sp>
          <p:nvSpPr>
            <p:cNvPr id="196" name=""/>
            <p:cNvSpPr/>
            <p:nvPr/>
          </p:nvSpPr>
          <p:spPr>
            <a:xfrm>
              <a:off x="216000" y="1600200"/>
              <a:ext cx="2946240" cy="2019240"/>
            </a:xfrm>
            <a:prstGeom prst="ellipse">
              <a:avLst/>
            </a:prstGeom>
            <a:solidFill>
              <a:srgbClr val="a7ff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27360" tIns="27360" bIns="27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9280" y="1752480"/>
              <a:ext cx="2850480" cy="183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27360" tIns="27360" bIns="273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Data Need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mbient   Meteorolog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Emissions   Model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atellit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5751360" y="1353960"/>
            <a:ext cx="3314880" cy="25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Decision Ma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Policy maker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 assessing intercontinental transp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AQ manager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 assessing an exceptional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Public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 planning activities today and tomo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05080" y="1308600"/>
            <a:ext cx="1697040" cy="1015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ir Quali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mmunity Infrastructu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9520" y="4280040"/>
            <a:ext cx="83566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Q Community of Practice has a strong role in coordinating and developing the tools and capabilities that will fill the gap between the GCI and decision suppor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ope you will get involved and engag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569480" y="1157400"/>
            <a:ext cx="1137240" cy="981720"/>
            <a:chOff x="4569480" y="1157400"/>
            <a:chExt cx="1137240" cy="981720"/>
          </a:xfrm>
        </p:grpSpPr>
        <p:sp>
          <p:nvSpPr>
            <p:cNvPr id="202" name=""/>
            <p:cNvSpPr/>
            <p:nvPr/>
          </p:nvSpPr>
          <p:spPr>
            <a:xfrm>
              <a:off x="4569480" y="1199880"/>
              <a:ext cx="1133640" cy="80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2127600">
              <a:off x="4803120" y="1326960"/>
              <a:ext cx="79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T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426560" y="3308760"/>
            <a:ext cx="1279440" cy="781200"/>
            <a:chOff x="4426560" y="3308760"/>
            <a:chExt cx="1279440" cy="781200"/>
          </a:xfrm>
        </p:grpSpPr>
        <p:sp>
          <p:nvSpPr>
            <p:cNvPr id="205" name=""/>
            <p:cNvSpPr/>
            <p:nvPr/>
          </p:nvSpPr>
          <p:spPr>
            <a:xfrm flipV="1">
              <a:off x="4426560" y="3541320"/>
              <a:ext cx="1279440" cy="54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20206800">
              <a:off x="4563360" y="349416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IRN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ir Quality Community Meeting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nta Barbara, Calif., 8 &amp; 9 July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1767" t="3107" r="15178" b="4237"/>
          <a:stretch/>
        </p:blipFill>
        <p:spPr>
          <a:xfrm>
            <a:off x="4559400" y="2982960"/>
            <a:ext cx="4267080" cy="29750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30200" y="1552680"/>
            <a:ext cx="77630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79440" y="1324080"/>
            <a:ext cx="814392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ing at the ESIP summer meeting; we will  have 1.5 days of air quality session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 Review infrastructure developme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 Review evolving desig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GEO, EPA data strateg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 Where do we go next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join 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iki.esipfed.org/index.php/Air_Quality_Community_Summer_2009_Me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O-VI Plenary, Washington DC, November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1345680"/>
            <a:ext cx="84452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Q Community is expected (and has planned) to demonstrat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ignificant tangible resul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a side event at the 2009 Plenar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d contributions will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IRNow-Inter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ERVIR-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Q Community Infrastructure from AIP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ions from other nations eagerly sought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8640" y="126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ction: AQ Scenario for GEO Architecture Implementation Pilot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21896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Q scenario in the GEO AIP-2 Call for Participation lays out a broad, ambitious vision describing examples of how GEOSS will serve AQ decision-ma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Spectrum of example </a:t>
            </a:r>
            <a:r>
              <a:rPr b="0" lang="en-US" sz="2200" spc="-1" strike="noStrike">
                <a:solidFill>
                  <a:srgbClr val="990033"/>
                </a:solidFill>
                <a:latin typeface="Arial"/>
              </a:rPr>
              <a:t>decision-make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ho depend on common upstream dat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Decisions need support from multiple types of data; no one type is adequ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04920" y="4317840"/>
            <a:ext cx="2946240" cy="2019240"/>
            <a:chOff x="304920" y="4317840"/>
            <a:chExt cx="2946240" cy="2019240"/>
          </a:xfrm>
        </p:grpSpPr>
        <p:sp>
          <p:nvSpPr>
            <p:cNvPr id="53" name=""/>
            <p:cNvSpPr/>
            <p:nvPr/>
          </p:nvSpPr>
          <p:spPr>
            <a:xfrm>
              <a:off x="304920" y="4317840"/>
              <a:ext cx="2946240" cy="2019240"/>
            </a:xfrm>
            <a:prstGeom prst="ellipse">
              <a:avLst/>
            </a:prstGeom>
            <a:solidFill>
              <a:srgbClr val="a7ff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27360" tIns="27360" bIns="27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58200" y="4470120"/>
              <a:ext cx="2850480" cy="183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27360" tIns="27360" bIns="273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Data Need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mbient   Meteorolog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Emissions   Model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atellit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5688000" y="4071960"/>
            <a:ext cx="3314880" cy="25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Decision Ma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Policy maker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 assessing intercontinental transp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AQ manager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 assessing an exceptional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Public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 planning activities today and tomo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 flipV="1">
            <a:off x="5721480" y="2064960"/>
            <a:ext cx="104292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19840" y="1486080"/>
            <a:ext cx="955800" cy="622080"/>
          </a:xfrm>
          <a:prstGeom prst="flowChartAlternateProcess">
            <a:avLst/>
          </a:prstGeom>
          <a:solidFill>
            <a:srgbClr val="ecdb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k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782840" y="1389240"/>
            <a:ext cx="1250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</a:rPr>
              <a:t>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</a:rPr>
              <a:t>inter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</a:rPr>
              <a:t>agreemen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19840" y="2743200"/>
            <a:ext cx="955800" cy="622440"/>
          </a:xfrm>
          <a:prstGeom prst="flowChartAlternateProcess">
            <a:avLst/>
          </a:prstGeom>
          <a:solidFill>
            <a:srgbClr val="ecdb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746840" y="2455920"/>
            <a:ext cx="1348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</a:rPr>
              <a:t>Was pol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</a:rPr>
              <a:t>event d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</a:rPr>
              <a:t>to 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</a:rPr>
              <a:t>from afa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60720" y="2610000"/>
            <a:ext cx="979560" cy="583200"/>
            <a:chOff x="5760720" y="2610000"/>
            <a:chExt cx="979560" cy="583200"/>
          </a:xfrm>
        </p:grpSpPr>
        <p:sp>
          <p:nvSpPr>
            <p:cNvPr id="62" name=""/>
            <p:cNvSpPr/>
            <p:nvPr/>
          </p:nvSpPr>
          <p:spPr>
            <a:xfrm>
              <a:off x="5760720" y="2831040"/>
              <a:ext cx="979560" cy="17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rot="622200">
              <a:off x="5806800" y="2671920"/>
              <a:ext cx="732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v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alys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940440" y="4127400"/>
            <a:ext cx="746280" cy="540000"/>
          </a:xfrm>
          <a:prstGeom prst="flowChartAlternateProcess">
            <a:avLst/>
          </a:prstGeom>
          <a:solidFill>
            <a:srgbClr val="ecdb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644440" y="3554640"/>
            <a:ext cx="1325160" cy="951840"/>
            <a:chOff x="5644440" y="3554640"/>
            <a:chExt cx="1325160" cy="951840"/>
          </a:xfrm>
        </p:grpSpPr>
        <p:sp>
          <p:nvSpPr>
            <p:cNvPr id="66" name=""/>
            <p:cNvSpPr/>
            <p:nvPr/>
          </p:nvSpPr>
          <p:spPr>
            <a:xfrm>
              <a:off x="5782680" y="3804480"/>
              <a:ext cx="1129320" cy="53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529400">
              <a:off x="5682240" y="3800880"/>
              <a:ext cx="1249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QI today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morrow, l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7748640" y="4011480"/>
            <a:ext cx="116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</a:rPr>
              <a:t>Is it healt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</a:rPr>
              <a:t>to go f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</a:rPr>
              <a:t>a run now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69080" y="68580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0066"/>
                </a:solidFill>
                <a:latin typeface="Arial"/>
              </a:rPr>
              <a:t>Decision maker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660066"/>
                </a:solidFill>
                <a:latin typeface="Arial"/>
              </a:rPr>
              <a:t>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35360" y="2457360"/>
            <a:ext cx="1046160" cy="6224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ir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81480" y="3276720"/>
            <a:ext cx="64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69320" y="3040200"/>
            <a:ext cx="54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3731040" y="1879560"/>
            <a:ext cx="840960" cy="610920"/>
            <a:chOff x="3731040" y="1879560"/>
            <a:chExt cx="840960" cy="610920"/>
          </a:xfrm>
        </p:grpSpPr>
        <p:sp>
          <p:nvSpPr>
            <p:cNvPr id="74" name=""/>
            <p:cNvSpPr/>
            <p:nvPr/>
          </p:nvSpPr>
          <p:spPr>
            <a:xfrm>
              <a:off x="3746520" y="2084400"/>
              <a:ext cx="825480" cy="40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575000">
              <a:off x="3751920" y="2036880"/>
              <a:ext cx="7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t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3677400" y="2529000"/>
            <a:ext cx="836280" cy="459720"/>
            <a:chOff x="3677400" y="2529000"/>
            <a:chExt cx="836280" cy="459720"/>
          </a:xfrm>
        </p:grpSpPr>
        <p:sp>
          <p:nvSpPr>
            <p:cNvPr id="77" name=""/>
            <p:cNvSpPr/>
            <p:nvPr/>
          </p:nvSpPr>
          <p:spPr>
            <a:xfrm flipV="1">
              <a:off x="3746520" y="2766960"/>
              <a:ext cx="76716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21597000">
              <a:off x="3677400" y="2529360"/>
              <a:ext cx="784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de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 rot="20263800">
            <a:off x="5477400" y="1674360"/>
            <a:ext cx="1218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contin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lutant x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030560" y="3081240"/>
            <a:ext cx="541440" cy="19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17960" y="3271680"/>
            <a:ext cx="541440" cy="19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35360" y="3448080"/>
            <a:ext cx="1097280" cy="6224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Q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ca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675960" y="3515400"/>
            <a:ext cx="837000" cy="459720"/>
            <a:chOff x="3675960" y="3515400"/>
            <a:chExt cx="837000" cy="459720"/>
          </a:xfrm>
        </p:grpSpPr>
        <p:sp>
          <p:nvSpPr>
            <p:cNvPr id="84" name=""/>
            <p:cNvSpPr/>
            <p:nvPr/>
          </p:nvSpPr>
          <p:spPr>
            <a:xfrm flipV="1">
              <a:off x="3746520" y="3757680"/>
              <a:ext cx="7664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1597000">
              <a:off x="3675960" y="3515760"/>
              <a:ext cx="784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de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665880" y="3945600"/>
            <a:ext cx="896040" cy="658440"/>
            <a:chOff x="3665880" y="3945600"/>
            <a:chExt cx="896040" cy="658440"/>
          </a:xfrm>
        </p:grpSpPr>
        <p:sp>
          <p:nvSpPr>
            <p:cNvPr id="87" name=""/>
            <p:cNvSpPr/>
            <p:nvPr/>
          </p:nvSpPr>
          <p:spPr>
            <a:xfrm flipV="1">
              <a:off x="3794040" y="4065120"/>
              <a:ext cx="767880" cy="50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9596000">
              <a:off x="3677760" y="4136400"/>
              <a:ext cx="7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t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955800" y="3290760"/>
            <a:ext cx="885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77760" y="3046320"/>
            <a:ext cx="7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130400" y="2188080"/>
            <a:ext cx="925920" cy="826560"/>
            <a:chOff x="1130400" y="2188080"/>
            <a:chExt cx="925920" cy="826560"/>
          </a:xfrm>
        </p:grpSpPr>
        <p:sp>
          <p:nvSpPr>
            <p:cNvPr id="92" name=""/>
            <p:cNvSpPr/>
            <p:nvPr/>
          </p:nvSpPr>
          <p:spPr>
            <a:xfrm>
              <a:off x="1130400" y="2529360"/>
              <a:ext cx="781560" cy="48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912200">
              <a:off x="1214640" y="2355120"/>
              <a:ext cx="77184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M, NO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lum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1054800" y="3354480"/>
            <a:ext cx="904680" cy="747720"/>
            <a:chOff x="1054800" y="3354480"/>
            <a:chExt cx="904680" cy="747720"/>
          </a:xfrm>
        </p:grpSpPr>
        <p:sp>
          <p:nvSpPr>
            <p:cNvPr id="95" name=""/>
            <p:cNvSpPr/>
            <p:nvPr/>
          </p:nvSpPr>
          <p:spPr>
            <a:xfrm flipV="1">
              <a:off x="1222560" y="3546720"/>
              <a:ext cx="69372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rot="20097000">
              <a:off x="1114920" y="3498480"/>
              <a:ext cx="784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de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257400" y="1422360"/>
            <a:ext cx="60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b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2040" y="3062160"/>
            <a:ext cx="617760" cy="4446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17800" y="3016080"/>
            <a:ext cx="1268280" cy="56844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data f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5680" y="3859200"/>
            <a:ext cx="871560" cy="4665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5640" y="2198520"/>
            <a:ext cx="657360" cy="4701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036800" y="3650400"/>
            <a:ext cx="1148400" cy="1169280"/>
            <a:chOff x="1036800" y="3650400"/>
            <a:chExt cx="1148400" cy="1169280"/>
          </a:xfrm>
        </p:grpSpPr>
        <p:sp>
          <p:nvSpPr>
            <p:cNvPr id="103" name=""/>
            <p:cNvSpPr/>
            <p:nvPr/>
          </p:nvSpPr>
          <p:spPr>
            <a:xfrm flipV="1">
              <a:off x="1099440" y="3665880"/>
              <a:ext cx="1085760" cy="111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8808200">
              <a:off x="1019520" y="4005360"/>
              <a:ext cx="1175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mbi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centr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31800" y="4772160"/>
            <a:ext cx="1096920" cy="7808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645200" y="3789360"/>
            <a:ext cx="778320" cy="1404720"/>
            <a:chOff x="1645200" y="3789360"/>
            <a:chExt cx="778320" cy="1404720"/>
          </a:xfrm>
        </p:grpSpPr>
        <p:sp>
          <p:nvSpPr>
            <p:cNvPr id="107" name=""/>
            <p:cNvSpPr/>
            <p:nvPr/>
          </p:nvSpPr>
          <p:spPr>
            <a:xfrm flipV="1">
              <a:off x="1723680" y="3789360"/>
              <a:ext cx="67500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7697000">
              <a:off x="1604880" y="4278600"/>
              <a:ext cx="858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miss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876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Q 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93360" y="5754600"/>
            <a:ext cx="781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Pink: exists, hard to get, hard to use: </a:t>
            </a:r>
            <a:r>
              <a:rPr b="0" i="1" lang="en-US" sz="2000" spc="-1" strike="noStrike">
                <a:solidFill>
                  <a:srgbClr val="ff0066"/>
                </a:solidFill>
                <a:latin typeface="Arial"/>
              </a:rPr>
              <a:t>GEOSS (</a:t>
            </a:r>
            <a:r>
              <a:rPr b="1" i="1" lang="en-US" sz="2000" spc="-1" strike="noStrike">
                <a:solidFill>
                  <a:srgbClr val="ff0066"/>
                </a:solidFill>
                <a:latin typeface="Arial"/>
              </a:rPr>
              <a:t>GCI</a:t>
            </a:r>
            <a:r>
              <a:rPr b="0" i="1" lang="en-US" sz="2000" spc="-1" strike="noStrike">
                <a:solidFill>
                  <a:srgbClr val="ff0066"/>
                </a:solidFill>
                <a:latin typeface="Arial"/>
              </a:rPr>
              <a:t>) can hel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lue: not currently operationally existent; </a:t>
            </a:r>
            <a:r>
              <a:rPr b="0" i="1" lang="en-US" sz="2000" spc="-1" strike="noStrike">
                <a:solidFill>
                  <a:srgbClr val="009999"/>
                </a:solidFill>
                <a:latin typeface="Arial"/>
              </a:rPr>
              <a:t>our goal for broad GE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Green: not currently adequate; </a:t>
            </a:r>
            <a:r>
              <a:rPr b="0" i="1" lang="en-US" sz="2000" spc="-1" strike="noStrike">
                <a:solidFill>
                  <a:srgbClr val="99cc00"/>
                </a:solidFill>
                <a:latin typeface="Arial"/>
              </a:rPr>
              <a:t>what society needs from GE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721480" y="2064960"/>
            <a:ext cx="1042920" cy="423720"/>
          </a:xfrm>
          <a:prstGeom prst="line">
            <a:avLst/>
          </a:prstGeom>
          <a:ln w="9360">
            <a:solidFill>
              <a:srgbClr val="99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19840" y="1486080"/>
            <a:ext cx="955800" cy="622080"/>
          </a:xfrm>
          <a:prstGeom prst="flowChartAlternateProcess">
            <a:avLst/>
          </a:prstGeom>
          <a:solidFill>
            <a:srgbClr val="ecdb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k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82840" y="1389240"/>
            <a:ext cx="1250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</a:rPr>
              <a:t>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</a:rPr>
              <a:t>inter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</a:rPr>
              <a:t>agreemen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19840" y="2743200"/>
            <a:ext cx="955800" cy="622440"/>
          </a:xfrm>
          <a:prstGeom prst="flowChartAlternateProcess">
            <a:avLst/>
          </a:prstGeom>
          <a:solidFill>
            <a:srgbClr val="ecdb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46840" y="2455920"/>
            <a:ext cx="1348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</a:rPr>
              <a:t>Was pol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</a:rPr>
              <a:t>event d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</a:rPr>
              <a:t>to 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</a:rPr>
              <a:t>from afa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761080" y="2613240"/>
            <a:ext cx="979560" cy="583200"/>
            <a:chOff x="5761080" y="2613240"/>
            <a:chExt cx="979560" cy="583200"/>
          </a:xfrm>
        </p:grpSpPr>
        <p:sp>
          <p:nvSpPr>
            <p:cNvPr id="117" name=""/>
            <p:cNvSpPr/>
            <p:nvPr/>
          </p:nvSpPr>
          <p:spPr>
            <a:xfrm>
              <a:off x="5761080" y="2831040"/>
              <a:ext cx="979560" cy="1782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622200">
              <a:off x="5808240" y="2675160"/>
              <a:ext cx="732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cc00"/>
                  </a:solidFill>
                  <a:latin typeface="Arial"/>
                </a:rPr>
                <a:t>Ev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cc00"/>
                  </a:solidFill>
                  <a:latin typeface="Arial"/>
                </a:rPr>
                <a:t>analys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6940440" y="4127400"/>
            <a:ext cx="746280" cy="540000"/>
          </a:xfrm>
          <a:prstGeom prst="flowChartAlternateProcess">
            <a:avLst/>
          </a:prstGeom>
          <a:solidFill>
            <a:srgbClr val="ecdb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668560" y="3576960"/>
            <a:ext cx="1279800" cy="930240"/>
            <a:chOff x="5668560" y="3576960"/>
            <a:chExt cx="1279800" cy="930240"/>
          </a:xfrm>
        </p:grpSpPr>
        <p:sp>
          <p:nvSpPr>
            <p:cNvPr id="121" name=""/>
            <p:cNvSpPr/>
            <p:nvPr/>
          </p:nvSpPr>
          <p:spPr>
            <a:xfrm>
              <a:off x="5783040" y="3806640"/>
              <a:ext cx="1128960" cy="5382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529400">
              <a:off x="5708880" y="3812400"/>
              <a:ext cx="1198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cc00"/>
                  </a:solidFill>
                  <a:latin typeface="Arial"/>
                </a:rPr>
                <a:t>AQI today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cc00"/>
                  </a:solidFill>
                  <a:latin typeface="Arial"/>
                </a:rPr>
                <a:t>tomorrow, l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7748640" y="4011480"/>
            <a:ext cx="116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</a:rPr>
              <a:t>Is it healt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</a:rPr>
              <a:t>to go f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</a:rPr>
              <a:t>a run now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69080" y="68580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0066"/>
                </a:solidFill>
                <a:latin typeface="Arial"/>
              </a:rPr>
              <a:t>Decision maker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660066"/>
                </a:solidFill>
                <a:latin typeface="Arial"/>
              </a:rPr>
              <a:t>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35360" y="2457360"/>
            <a:ext cx="1046160" cy="6224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ir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81480" y="3276720"/>
            <a:ext cx="645840" cy="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69320" y="3040200"/>
            <a:ext cx="54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co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734280" y="1881000"/>
            <a:ext cx="837720" cy="609840"/>
            <a:chOff x="3734280" y="1881000"/>
            <a:chExt cx="837720" cy="609840"/>
          </a:xfrm>
        </p:grpSpPr>
        <p:sp>
          <p:nvSpPr>
            <p:cNvPr id="129" name=""/>
            <p:cNvSpPr/>
            <p:nvPr/>
          </p:nvSpPr>
          <p:spPr>
            <a:xfrm>
              <a:off x="3746520" y="2084400"/>
              <a:ext cx="825480" cy="406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575000">
              <a:off x="3755160" y="2038320"/>
              <a:ext cx="7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Arial"/>
                </a:rPr>
                <a:t>met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680280" y="2531160"/>
            <a:ext cx="834120" cy="459720"/>
            <a:chOff x="3680280" y="2531160"/>
            <a:chExt cx="834120" cy="459720"/>
          </a:xfrm>
        </p:grpSpPr>
        <p:sp>
          <p:nvSpPr>
            <p:cNvPr id="132" name=""/>
            <p:cNvSpPr/>
            <p:nvPr/>
          </p:nvSpPr>
          <p:spPr>
            <a:xfrm flipV="1">
              <a:off x="3747240" y="2766600"/>
              <a:ext cx="767160" cy="32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21597000">
              <a:off x="3680280" y="2531520"/>
              <a:ext cx="784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Arial"/>
                </a:rPr>
                <a:t>transpo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Arial"/>
                </a:rPr>
                <a:t>mode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20263800">
            <a:off x="5480640" y="1674360"/>
            <a:ext cx="1218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cc00"/>
                </a:solidFill>
                <a:latin typeface="Arial"/>
              </a:rPr>
              <a:t>Repor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cc00"/>
                </a:solidFill>
                <a:latin typeface="Arial"/>
              </a:rPr>
              <a:t>intercontin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cc00"/>
                </a:solidFill>
                <a:latin typeface="Arial"/>
              </a:rPr>
              <a:t>pollutant x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030560" y="3081240"/>
            <a:ext cx="541440" cy="192240"/>
          </a:xfrm>
          <a:prstGeom prst="line">
            <a:avLst/>
          </a:prstGeom>
          <a:ln w="9360">
            <a:solidFill>
              <a:srgbClr val="0099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17960" y="3271680"/>
            <a:ext cx="541440" cy="192240"/>
          </a:xfrm>
          <a:prstGeom prst="line">
            <a:avLst/>
          </a:prstGeom>
          <a:ln w="9360">
            <a:solidFill>
              <a:srgbClr val="0099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35360" y="3448080"/>
            <a:ext cx="1097280" cy="6224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Q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ca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677400" y="3519360"/>
            <a:ext cx="836280" cy="459720"/>
            <a:chOff x="3677400" y="3519360"/>
            <a:chExt cx="836280" cy="459720"/>
          </a:xfrm>
        </p:grpSpPr>
        <p:sp>
          <p:nvSpPr>
            <p:cNvPr id="139" name=""/>
            <p:cNvSpPr/>
            <p:nvPr/>
          </p:nvSpPr>
          <p:spPr>
            <a:xfrm flipV="1">
              <a:off x="3746520" y="3757320"/>
              <a:ext cx="767160" cy="32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21597000">
              <a:off x="3677400" y="3519720"/>
              <a:ext cx="784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Arial"/>
                </a:rPr>
                <a:t>transpo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Arial"/>
                </a:rPr>
                <a:t>mode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669480" y="3946320"/>
            <a:ext cx="892440" cy="658440"/>
            <a:chOff x="3669480" y="3946320"/>
            <a:chExt cx="892440" cy="658440"/>
          </a:xfrm>
        </p:grpSpPr>
        <p:sp>
          <p:nvSpPr>
            <p:cNvPr id="142" name=""/>
            <p:cNvSpPr/>
            <p:nvPr/>
          </p:nvSpPr>
          <p:spPr>
            <a:xfrm flipV="1">
              <a:off x="3794400" y="4065840"/>
              <a:ext cx="767520" cy="5072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9596000">
              <a:off x="3681360" y="4137120"/>
              <a:ext cx="7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Arial"/>
                </a:rPr>
                <a:t>met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955800" y="3290760"/>
            <a:ext cx="8856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77760" y="3046320"/>
            <a:ext cx="7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met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130760" y="2194920"/>
            <a:ext cx="927360" cy="819360"/>
            <a:chOff x="1130760" y="2194920"/>
            <a:chExt cx="927360" cy="819360"/>
          </a:xfrm>
        </p:grpSpPr>
        <p:sp>
          <p:nvSpPr>
            <p:cNvPr id="147" name=""/>
            <p:cNvSpPr/>
            <p:nvPr/>
          </p:nvSpPr>
          <p:spPr>
            <a:xfrm>
              <a:off x="1130760" y="2529000"/>
              <a:ext cx="781920" cy="4852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912200">
              <a:off x="1216440" y="2361960"/>
              <a:ext cx="77184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Arial"/>
                </a:rPr>
                <a:t>PM, NO</a:t>
              </a:r>
              <a:r>
                <a:rPr b="0" lang="en-US" sz="1200" spc="-1" strike="noStrike" baseline="-25000">
                  <a:solidFill>
                    <a:srgbClr val="ff0066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Arial"/>
                </a:rPr>
                <a:t>colum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057680" y="3354480"/>
            <a:ext cx="904680" cy="747720"/>
            <a:chOff x="1057680" y="3354480"/>
            <a:chExt cx="904680" cy="747720"/>
          </a:xfrm>
        </p:grpSpPr>
        <p:sp>
          <p:nvSpPr>
            <p:cNvPr id="150" name=""/>
            <p:cNvSpPr/>
            <p:nvPr/>
          </p:nvSpPr>
          <p:spPr>
            <a:xfrm flipV="1">
              <a:off x="1222200" y="3546720"/>
              <a:ext cx="693720" cy="3268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20097000">
              <a:off x="1117800" y="3498480"/>
              <a:ext cx="784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Arial"/>
                </a:rPr>
                <a:t>transpo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Arial"/>
                </a:rPr>
                <a:t>mode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57400" y="1422360"/>
            <a:ext cx="60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b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2040" y="3062160"/>
            <a:ext cx="617760" cy="4446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17800" y="3016080"/>
            <a:ext cx="1268280" cy="5684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data f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5680" y="3859200"/>
            <a:ext cx="871560" cy="4665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5640" y="2198520"/>
            <a:ext cx="657360" cy="4701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039680" y="3659400"/>
            <a:ext cx="1145520" cy="1169280"/>
            <a:chOff x="1039680" y="3659400"/>
            <a:chExt cx="1145520" cy="1169280"/>
          </a:xfrm>
        </p:grpSpPr>
        <p:sp>
          <p:nvSpPr>
            <p:cNvPr id="158" name=""/>
            <p:cNvSpPr/>
            <p:nvPr/>
          </p:nvSpPr>
          <p:spPr>
            <a:xfrm flipV="1">
              <a:off x="1099440" y="3665880"/>
              <a:ext cx="1085760" cy="1117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8808200">
              <a:off x="1022400" y="4014360"/>
              <a:ext cx="1175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Arial"/>
                </a:rPr>
                <a:t>ambi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Arial"/>
                </a:rPr>
                <a:t>concentr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31800" y="4772160"/>
            <a:ext cx="1096920" cy="7808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647000" y="3789360"/>
            <a:ext cx="778320" cy="1404720"/>
            <a:chOff x="1647000" y="3789360"/>
            <a:chExt cx="778320" cy="1404720"/>
          </a:xfrm>
        </p:grpSpPr>
        <p:sp>
          <p:nvSpPr>
            <p:cNvPr id="162" name=""/>
            <p:cNvSpPr/>
            <p:nvPr/>
          </p:nvSpPr>
          <p:spPr>
            <a:xfrm flipV="1">
              <a:off x="1723680" y="3789360"/>
              <a:ext cx="675000" cy="1404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7697000">
              <a:off x="1606680" y="4286520"/>
              <a:ext cx="858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Arial"/>
                </a:rPr>
                <a:t>emiss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876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Q 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42720" y="190440"/>
            <a:ext cx="84582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les of the AQ Community of Prac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2560" y="2195640"/>
            <a:ext cx="877572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upon the GCI: as GEOSS grows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Better Access and Discovery of E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--&gt;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Decision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SS will requi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community engagement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ing and maintaining the core Community Infrastructure (AIP-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ng needed data, information, and tools needed to serve users and make them available and usable within GE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the conventions and best practices for developing the GEO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his work is best handled by a Community of Pract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among the many relevant initiatives and activities working on aspects of AQ decision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2760" y="938160"/>
            <a:ext cx="848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 envisions Communities of Practice as important links between GEO organizations, practitioners who collect and analyze observations, and end us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ilding the AQ System of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of the efforts to build parts of this vi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 AIP-2: AQ Community Infrastruc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ee following tal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51280" y="3875040"/>
            <a:ext cx="513000" cy="74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844880" y="3860640"/>
            <a:ext cx="15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Find: </a:t>
            </a:r>
            <a:r>
              <a:rPr b="1" lang="en-US" sz="10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CSW/RSS/I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3598920" y="3885840"/>
            <a:ext cx="466560" cy="74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867120" y="5106600"/>
            <a:ext cx="1224000" cy="17640"/>
          </a:xfrm>
          <a:prstGeom prst="line">
            <a:avLst/>
          </a:prstGeom>
          <a:ln w="3816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33640" y="4865760"/>
            <a:ext cx="11415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Bin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 </a:t>
            </a:r>
            <a:r>
              <a:rPr b="1" lang="en-US" sz="10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WMS/W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84440" y="3997440"/>
            <a:ext cx="1314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Publish:  </a:t>
            </a:r>
            <a:r>
              <a:rPr b="1" lang="en-US" sz="10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ISO Metadata</a:t>
            </a:r>
            <a:r>
              <a:rPr b="1" lang="en-US" sz="10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67280" y="5319720"/>
            <a:ext cx="86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3186000" y="4660920"/>
            <a:ext cx="603360" cy="10015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849400" y="5408640"/>
            <a:ext cx="113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2"/>
          <a:stretch/>
        </p:blipFill>
        <p:spPr>
          <a:xfrm>
            <a:off x="4098960" y="3198960"/>
            <a:ext cx="601560" cy="10062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"/>
          <p:cNvPicPr/>
          <p:nvPr/>
        </p:nvPicPr>
        <p:blipFill>
          <a:blip r:embed="rId3"/>
          <a:stretch/>
        </p:blipFill>
        <p:spPr>
          <a:xfrm>
            <a:off x="4098960" y="3198960"/>
            <a:ext cx="601560" cy="1006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1" descr=""/>
          <p:cNvPicPr/>
          <p:nvPr/>
        </p:nvPicPr>
        <p:blipFill>
          <a:blip r:embed="rId4"/>
          <a:stretch/>
        </p:blipFill>
        <p:spPr>
          <a:xfrm>
            <a:off x="5146560" y="4633920"/>
            <a:ext cx="706680" cy="9050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635280" y="2720880"/>
            <a:ext cx="167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E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learingh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ilding the AQ System of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of the efforts to build parts of this vi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 AIP: AQ Community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Q Forecasting &amp; Public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O Work Plan Task HE-09-02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Now-International, AIRAWARE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ee previous talks re: AIRNow-International, AIRAWARE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5078" t="22431" r="69969" b="30124"/>
          <a:stretch/>
        </p:blipFill>
        <p:spPr>
          <a:xfrm>
            <a:off x="2338560" y="3848040"/>
            <a:ext cx="2206440" cy="15732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289400" y="4535640"/>
            <a:ext cx="213192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ilding the AQ System of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of the efforts to build parts of this vi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 AIP: AQ Community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Q Forecasting &amp; Public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tional modeling and evaluation initiativ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- CLRTAP TF Hemispheric Transport of Air Pol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- Atmospheric Brown Cloud Initi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- Mercury Fate &amp; Transport Research Part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EO Work Plan Task HE-09-0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- Air Quality Model Evaluation International Initi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EO Work Plan Task DA-09-0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- Aero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- IGAC-SPARC Atmospheric Chemistry &amp; Climate initi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- ACCENT, GEMS / MA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-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AP Data Network Pi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1057320"/>
            <a:ext cx="9144000" cy="32907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716040" y="4767120"/>
            <a:ext cx="753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 1:  Connect Juelich to DataFed/NEISG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completed by end of FY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 2:  Connect Giovanni, NILU, AeroCom, Lang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 3:  Connect to CMAS, RSIG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11:19Z</dcterms:created>
  <dc:creator>David McCabe</dc:creator>
  <dc:description/>
  <dc:language>en-US</dc:language>
  <cp:lastModifiedBy>David McCabe</cp:lastModifiedBy>
  <dcterms:modified xsi:type="dcterms:W3CDTF">2009-05-05T19:52:57Z</dcterms:modified>
  <cp:revision>14</cp:revision>
  <dc:subject/>
  <dc:title>The GEO Air Quality Community of Practice:  From Observations to Decision Support</dc:title>
</cp:coreProperties>
</file>